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510-3E29-47A0-90D5-4072B06B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594-F5E1-4040-BCCD-A200F8B6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E18-345A-4ACC-8A5A-8D1BF3D0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591-E9D2-4CE0-807E-9B492504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B768-14F6-4CAD-8A9D-DE13E44C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7EA-C3D4-43EC-A120-20BE2FCF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89AC-CA88-4D94-9E45-7ED8D9BE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D152-E5C7-43AA-867E-00096C5F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16B1-408C-41FF-A009-DAEE04CC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30B9-99C1-48E2-B074-5D9C6760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519-1440-48E7-AC4F-54D9B5F5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D60-593A-4F56-A779-709B937F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B9E4-50A1-4ABE-8BBB-5C0F8B83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870F-96F8-4C3D-B726-B5C6E003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C03F-2E40-429C-87A3-4104C00F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8DEC-8884-4861-8EAC-EAB4E8F8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5500-8D47-41E5-BEFD-66B0300C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A4ED6-4F6B-43C9-9807-C904227F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59BD-7441-450F-92EF-BF199EC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59111-9B3D-475D-992F-CE0EFA0F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DCA8-800F-44B4-82DB-D6942267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4A6D-78CE-4597-BF50-9CE63715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C20-C230-40AC-8BEA-6A821F1E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DB25-E2A8-4C4A-9044-8E9DB1EA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9C02-0A63-4CBF-9B43-3FD68055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716E-8EC5-4EA9-A4F9-6921D8A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D49C-95DB-4173-8000-300743E4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6A94-C4F6-4B44-AA0F-0B4C53F3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204F-4D13-4FB9-8082-295D6E35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09D0-980D-4ABF-BBBF-58899241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8AAA-FC32-4742-B00B-80EAF8A2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74A4-4AF2-411E-819C-536A4687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B5F73-8992-409F-99EB-45DBF771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F30-7009-4716-9BEF-2AAF812A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65620-03EB-49AB-9A26-13F78FCC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49566-3F82-4759-8A01-469A8D40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84A58-3218-4852-ABCE-4786BB76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A7AF5-37AD-4E32-A23E-49489DA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4452F-9FD9-4C3B-9B7D-E72DA46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A83FB-A66D-46E8-9D45-6C9611C5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0D6F-8712-4A21-811F-B7CF92E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E5BBB-6796-48E1-BC19-3B0EE485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48E2E-6CE0-473E-AB0D-0049B12D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4B87-9A50-4B13-987A-E139470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2D8-F2B4-4068-9132-05F2C9D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148-46FB-451C-A583-B3FF0CC9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4D3-0433-4F3F-A5E7-375A129F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A530-9DC3-46FF-95BC-BFCFD99E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022B-5826-4925-BAE6-AE8CF6F50260}" type="slidenum">
              <a:rPr b="0" lang="lt-L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970F-AE62-4DDF-8940-317C894AB494}" type="slidenum">
              <a:rPr b="0" lang="lt-L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7E40-B355-477E-95EF-A291F764F67A}" type="slidenum">
              <a:rPr b="0" lang="lt-LT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A74A-98BD-4F16-A196-A7FDAD25A01A}" type="slidenum">
              <a:rPr b="0" lang="lt-LT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4617b"/>
                </a:solidFill>
                <a:latin typeface="Calibri"/>
              </a:rPr>
              <a:t>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katedra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… studijų programa</a:t>
            </a:r>
            <a:endParaRPr b="0" lang="en-US" sz="2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4920" y="2325600"/>
            <a:ext cx="849780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igiamojo darbo pavadinim</a:t>
            </a:r>
            <a:r>
              <a:rPr b="1" lang="lt-LT" sz="3200" spc="-1" strike="noStrike">
                <a:solidFill>
                  <a:srgbClr val="000000"/>
                </a:solidFill>
                <a:latin typeface="Calibri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t-LT" sz="2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bo autori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yb</a:t>
            </a:r>
            <a:r>
              <a:rPr b="0" lang="lt-LT" sz="2000" spc="-1" strike="noStrike">
                <a:solidFill>
                  <a:srgbClr val="000000"/>
                </a:solidFill>
                <a:latin typeface="Calibri"/>
              </a:rPr>
              <a:t>ė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ursa</a:t>
            </a:r>
            <a:r>
              <a:rPr b="0" lang="lt-LT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197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metoda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preliminarius teorinius ir empirinius tyrimo metod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strategij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ir pagrįsti tyrimo kryptį (kokybinis/kiekybinis tyrima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vieta, laiko išteklia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tyrimo vietą, preliminariai numatytus laiko išteklius (kur ir kada bus atliekamas tyrimas, kiek laiko bus skirta duomenų rinkimui ir duomenų analizei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imti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tiriamųjų imtį, pagrįsti jos atrankos kriterij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Preliminarios tyrimo išv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kokių tyrimo rezultatų tikima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Apibūdinti numatomų tyrimo rezultatų reikšmingumą ugdymo praktikai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varbu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Naudoti tinkamus šrifto dydžius, kad jie pristatymo metu būtų </a:t>
            </a:r>
            <a:r>
              <a:rPr b="0" lang="lt-LT" sz="3200" spc="-1" strike="noStrike">
                <a:solidFill>
                  <a:srgbClr val="ff6600"/>
                </a:solidFill>
                <a:latin typeface="Calibri"/>
              </a:rPr>
              <a:t>į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skaitom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Tinkami šfriftai – Times </a:t>
            </a:r>
            <a:r>
              <a:rPr b="0" lang="lt-LT" sz="3200" spc="-1" strike="noStrike">
                <a:solidFill>
                  <a:srgbClr val="ff66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ew </a:t>
            </a:r>
            <a:r>
              <a:rPr b="0" lang="lt-LT" sz="3200" spc="-1" strike="noStrike">
                <a:solidFill>
                  <a:srgbClr val="ff66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oman, Calibr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Tinkami dydžiai –</a:t>
            </a:r>
            <a:r>
              <a:rPr b="0" lang="lt-LT" sz="3200" spc="-1" strike="noStrike">
                <a:solidFill>
                  <a:srgbClr val="ff6600"/>
                </a:solidFill>
                <a:latin typeface="Calibri"/>
              </a:rPr>
              <a:t> 24-32p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ff6600"/>
                </a:solidFill>
                <a:latin typeface="Calibri"/>
              </a:rPr>
              <a:t>Skaidrėje  matomą informaciją ne skaityti, bet interpretuoti</a:t>
            </a: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042920" y="2781360"/>
            <a:ext cx="7408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Ačiū už dėmesį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Preliminarus darbo turin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I skyrius. 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skyriaus pavadinim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1.1. Įvardinti poskyrio pavadinim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1.2................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Calibri"/>
              </a:rPr>
              <a:t>II skyrius. 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skyriaus pavadinim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2.1. Įvardinti poskyrio pavadinim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2.2.....................................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aktualu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Tezėmis įvardinti pasirinktos temos ir atliekamo tyrimo aktualum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proble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Tezėmis įvardinti pasirinktos temos ir atliekamo tyrimo edukologinę problemą (galima įvardinti probleminius klausimu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emos ištirtu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27664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0" lang="lt-LT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ezėmis įvardinti pasirinktos temos ištirtumo laipsnį: kokie autoriai jau gvildeno šią temą, kokie buvo atlikti tyrimai, kokie svarbiausi atliktų tyrimų rezultata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objek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tyrimo objekt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tiksl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tyrimo tiksl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Tyrimo uždavinia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tyrimo uždavini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5000" spc="-1" strike="noStrike">
                <a:solidFill>
                  <a:srgbClr val="000000"/>
                </a:solidFill>
                <a:latin typeface="Calibri"/>
              </a:rPr>
              <a:t>Hipotezė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alibri"/>
              </a:rPr>
              <a:t>Įvardinti tyrimo hipotez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7:42:09Z</dcterms:created>
  <dc:creator>Kompas</dc:creator>
  <dc:description/>
  <dc:language>en-US</dc:language>
  <cp:lastModifiedBy>Inspiron</cp:lastModifiedBy>
  <dcterms:modified xsi:type="dcterms:W3CDTF">2016-12-20T21:02:36Z</dcterms:modified>
  <cp:revision>1315</cp:revision>
  <dc:subject/>
  <dc:title>Slide 1</dc:title>
</cp:coreProperties>
</file>